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7.png" ContentType="image/pn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3.png" ContentType="image/png"/>
  <Override PartName="/ppt/media/image37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30.jpeg" ContentType="image/jpeg"/>
  <Override PartName="/ppt/media/image39.png" ContentType="image/png"/>
  <Override PartName="/ppt/media/image9.png" ContentType="image/png"/>
  <Override PartName="/ppt/media/image36.jpeg" ContentType="image/jpeg"/>
  <Override PartName="/ppt/media/image8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432-9811-4A3D-86BE-8C8D6689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A94-1587-4B72-BEFA-542D1EBA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5A9-FD90-46C0-BC76-32D01187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141-88E7-4F33-9584-6F8B4665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C5BC-41F7-41FE-968D-4BC3F11E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34F2-FD0F-4630-8C1A-F7FEE513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EEF1-B2CD-42AC-82A3-230D885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CA83-2EE5-4304-84DE-B8B538F9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0299-43DA-4CA9-87BB-9E877C47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6BFB-7D0F-4DDE-8B2F-4562401F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8677-4D37-439B-B66E-B6E69FC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B21-965B-4E8F-AD11-001AA4B9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1311-168F-4E8B-AD46-5D676F91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590F-1680-4EC9-8DB8-4CB18C9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9132-BEB8-45B6-8E58-DC55DB08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23C5-701B-4982-95CD-48B1767C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B1DA-D565-4191-B029-2DA191D5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DEAC-F2A0-4418-9401-34A978E4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0CFB-3CB0-40D2-9A1D-1D22CB4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1861-43EA-46A6-8A56-7D35A9B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7E4A-897B-4DA0-871B-54A95462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A5E0-0DCB-4562-B593-AA2C7BEF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E1B-A032-457F-8D5F-B562FF8A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58AD-CCC8-45C1-84E6-F091E613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5CBC-4C0E-45A3-B50A-927D0990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F8F5-A6B4-4D80-B511-E6CCE1C5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E1E8-F759-42D1-8878-FE28D632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1262A-8A30-42D4-BE7F-F453173A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4E06-5793-485E-B8E8-8B032C82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DEAA-97DB-4F7A-85E7-AC285695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3CAE9-C15C-4DDF-8D5A-76978B51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FB68-401C-4CD3-B96A-F7F3CEFF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9C73C-D6E1-40D6-8AF2-9D45AD31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F33-00C6-4346-A1E2-88B734EA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DD7D2-660E-4648-B9E8-87B3C2C7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AB0D-0E1C-4F36-B3F5-F501351E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3B5A2-49BD-40E4-9C3D-E6D3D5AD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D3F83-AD43-4910-B215-4D3EDEEA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125D6-7AD4-41A6-96AD-980101A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F5AA-EDDB-44E8-90D7-D469BB2C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6639C-6645-4EE5-9077-0D63D729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FD4A-7B3B-4B46-80EA-91BFA041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BA14-D1F1-47BA-A38A-59D169F2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60037-A66F-4E88-9943-8D8C6BBA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DB3-358F-43F5-84ED-D20E9E94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4C0BA-6747-4B3D-A24E-D3AD330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2A62-2572-4F87-B51A-A824679C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62176-2A70-433E-973D-D155B27C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E56D3-3BE9-4BE4-BC91-DD758340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8D137-92E0-4D9E-AD89-F82964AA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1F5E0-D8A2-477F-BACA-0422EF7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933D-7332-4176-9B73-9500116F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FD21E-3A7D-4C7C-ADA6-BB8630CD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D5E0A-C568-4DFB-A24E-2314F18A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7069-CBB1-447A-84ED-5A202A66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C9B-F4E1-4C55-8B54-9A3B8BCB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5A09E-997B-476C-9D61-FDCF5D2C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56A19-2E98-4EBA-B9DF-12F8B5BC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8760-51EA-4DAA-84EA-367CF62B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AEA86-0CC7-45ED-B1A9-76EDC839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F16E2-EF72-473D-9106-93AF390E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7176B-74AD-49B1-BA15-6AF07200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869A7-2668-4D04-8680-950E471E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5C8A0-6A99-4E06-AD59-DB44A981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0C00C-D15D-4D25-8668-DB143B78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010D5-7A10-40EA-95CA-95B40912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255-8172-4EF4-8FE4-02F46DAF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A2C67-439A-47B7-A5AD-B6CCF33B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39A9F-1032-448D-B789-3B49EA5A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95B37-06E5-4166-AB30-C70F4A43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D56CE-516E-45D3-8B19-B0D7C47D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0D249-B1CE-49E4-8E06-21648556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E8EF-2A8E-4B03-8975-2752F2F7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EAEC3-C09A-493E-85EF-947AFA4A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09A94-7FD8-421C-92FA-044521A3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F50AC-3633-4F11-A845-9C6F6139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2228F-CD15-4E4D-A7E7-DFDB9B5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9CF-3C59-40EA-BD96-90BF1A74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CEF2-C501-4153-985F-3E70621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A0D32-D638-485E-A2D9-BC103FB9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50A62-876A-460E-AF6D-B071CEFE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215A3-72CF-400C-86D0-1BDAA690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EB534-85B9-48DA-823F-3C7D90D2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DEF6E-7949-4BA2-9430-4F6D2A14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5059E-5A9D-4922-BB6E-39B68FA8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78AB3-C232-43DA-806A-CBBD27BF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AAF20-094C-4877-A3B5-DF33FD1F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C7323-8AB1-4507-B3A5-98BED645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938-530B-4BF5-8BDD-4ED560C3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96A03-BA34-4946-892A-C93088AE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76166-1E3A-4F06-864B-F304AEBE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8A560-6B93-4127-B028-966BD87C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A4652-5B02-4F2E-A7FF-B37162F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F7788-4D04-4FCC-AB06-1E95AC4B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E2C9B-3472-449A-97C9-C4C2DFA2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25AD0-595B-4902-AAC7-1C02F05F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FFAC-0D6A-4D4A-B786-E3121494972D}" type="slidenum"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AB93-79C3-4324-B569-BA4919EF7D40}" type="slidenum"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2E0C-9295-4E0E-8AE5-F35DD8175DA6}" type="slidenum"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E33A-C5E7-4D5E-9782-7050A637E95D}" type="slidenum"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C3BD-D8D7-4974-8AB8-8DCC353415AB}" type="slidenum"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3BBF-FE28-4409-92F0-E34D4324AE09}" type="slidenum"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3D56-EF1B-4BA6-9F5E-B05B6D50EE42}" type="slidenum">
              <a:rPr b="0" lang="lt-L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4298-3DEC-4F67-8797-A6B4C01F3FFA}" type="slidenum">
              <a:rPr b="0" lang="lt-L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755640" y="270828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1258920" y="476280"/>
            <a:ext cx="7343640" cy="64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PANEVĖŽIO LOPŠELIS-DARŽELIS „</a:t>
            </a:r>
            <a:r>
              <a:rPr b="1" lang="lt-LT" sz="1800" spc="-1" strike="noStrike">
                <a:solidFill>
                  <a:srgbClr val="000000"/>
                </a:solidFill>
                <a:latin typeface="Verdana"/>
              </a:rPr>
              <a:t>SIGUTĖ</a:t>
            </a: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Auklėtoja-metodininkė </a:t>
            </a:r>
            <a:r>
              <a:rPr b="1" lang="lt-LT" sz="1800" spc="-1" strike="noStrike">
                <a:solidFill>
                  <a:srgbClr val="000000"/>
                </a:solidFill>
                <a:latin typeface="Verdana"/>
              </a:rPr>
              <a:t>Regina Macijauskienė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eptyni </a:t>
            </a:r>
            <a:r>
              <a:rPr b="1" lang="lt-LT" sz="4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ingsneliai</a:t>
            </a:r>
            <a:r>
              <a:rPr b="1" lang="lt-LT" sz="4400" spc="-1" strike="noStrike">
                <a:solidFill>
                  <a:srgbClr val="000000"/>
                </a:solidFill>
                <a:latin typeface="Verdana"/>
              </a:rPr>
              <a:t> laimingos vaikystės lin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1403280" y="546084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Panevėžys, 20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ma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, kuri sukuria ryšį su vaiku, padaro vieną svarbiausių žingsnių garantuodama ne ti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aimingą vaikystę, bet ir laimingą gyvenim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5" descr="ar-tikrai-atgyveno-tradicine-seima-2"/>
          <p:cNvPicPr/>
          <p:nvPr/>
        </p:nvPicPr>
        <p:blipFill>
          <a:blip r:embed="rId2"/>
          <a:stretch/>
        </p:blipFill>
        <p:spPr>
          <a:xfrm>
            <a:off x="1547640" y="3213000"/>
            <a:ext cx="6153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kuria gerą nuotaiką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ugdo vaiko įgūdžiu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eidžia atrasti mėgstamiausius dalyk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4" descr="Seima"/>
          <p:cNvPicPr/>
          <p:nvPr/>
        </p:nvPicPr>
        <p:blipFill>
          <a:blip r:embed="rId2"/>
          <a:stretch/>
        </p:blipFill>
        <p:spPr>
          <a:xfrm>
            <a:off x="2195640" y="2997360"/>
            <a:ext cx="4321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r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t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ūrizuota ir vaikų inicijuota veikla, kuriai nekeliami suaugusiųjų sugalvoti tikslai ir reikalavimai bei veiklos principa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alimybė vaikui pačiam spręsti uždavinius savo tempu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riemonės, kurios neturi paskirties ir gali būti naudojamos skirtingais būdais; įvairios medžiagos; daiktai iš realaus pasaulio, o ne pirktiniai žaisl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4" descr="100_1470"/>
          <p:cNvPicPr/>
          <p:nvPr/>
        </p:nvPicPr>
        <p:blipFill>
          <a:blip r:embed="rId2"/>
          <a:stretch/>
        </p:blipFill>
        <p:spPr>
          <a:xfrm>
            <a:off x="468360" y="1484280"/>
            <a:ext cx="8169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IMG_7192"/>
          <p:cNvPicPr/>
          <p:nvPr/>
        </p:nvPicPr>
        <p:blipFill>
          <a:blip r:embed="rId2"/>
          <a:stretch/>
        </p:blipFill>
        <p:spPr>
          <a:xfrm>
            <a:off x="971640" y="1481040"/>
            <a:ext cx="74167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ieg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fizinė veikl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ilnavertė sveika mityb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Picture 5" descr="DSC05527"/>
          <p:cNvPicPr/>
          <p:nvPr/>
        </p:nvPicPr>
        <p:blipFill>
          <a:blip r:embed="rId2"/>
          <a:stretch/>
        </p:blipFill>
        <p:spPr>
          <a:xfrm>
            <a:off x="1547640" y="2852640"/>
            <a:ext cx="6121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aikui būtina patirti visus jausmus, kad susipažintų su ne visada rožiniu pasauliu ir surastų būdus nuotaikai pakeist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eisdami vaikams patirti visas patirtis, net sudėtingas ir sukeliančias nusivylimą, padedame vaikams susikurti vidinę stiprybę, kuri veda į laimę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reikia saugoti vaikų nuo gyvenimo, kuriame gausu ir gero, ir blog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galba kitiems yra viena emociškai naudingiausių veiklų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ėgavimasis mažais dalyka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ozityvaus elgesio modeli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Picture 5" descr="stikline_tuscia_pilna_px300"/>
          <p:cNvPicPr/>
          <p:nvPr/>
        </p:nvPicPr>
        <p:blipFill>
          <a:blip r:embed="rId2"/>
          <a:stretch/>
        </p:blipFill>
        <p:spPr>
          <a:xfrm>
            <a:off x="2411280" y="3284640"/>
            <a:ext cx="525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 tik kalbėtis, bet ir klausyti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eisė liūdėti ir teisė pykt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ormalu yra kartais jaustis blogai dėl aplinkos poveik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eisti pabūti vienumoj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u puikiai gali pats, bet, jei mūsų reikės, mes esame šalia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tebėjus nuolatinius “nelaimingumo” signalus kreiptis į specialistus pagalb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teikti geras emocijas ir patirt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okytis mylėti pasaulį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 vaiku kalbėtis, bendraut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rūpintis vaika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galinė meilė, atsidavimas, glaudus ryšys šeimoj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Picture 9" descr="nimavikegimakiladupudojepokare"/>
          <p:cNvPicPr/>
          <p:nvPr/>
        </p:nvPicPr>
        <p:blipFill>
          <a:blip r:embed="rId2"/>
          <a:stretch/>
        </p:blipFill>
        <p:spPr>
          <a:xfrm>
            <a:off x="2556000" y="3716280"/>
            <a:ext cx="49687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grįsti lūkesčia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šeim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įdomus darb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Universali laimės formulė nuotrauka, foto"/>
          <p:cNvPicPr/>
          <p:nvPr/>
        </p:nvPicPr>
        <p:blipFill>
          <a:blip r:embed="rId2"/>
          <a:stretch/>
        </p:blipFill>
        <p:spPr>
          <a:xfrm>
            <a:off x="4284720" y="620640"/>
            <a:ext cx="460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ūdamas su vaiku būk su juo ne tik kūnu, bet ir mintimi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Žaisk vaiko žaidimu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ą nors gamink ar taisyk kartu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Išmokyk savo vaiką naujų dalykų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urėk kelias minutes per dieną, kurios būtų skirtos jausmam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urėk šeimos ritualų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t-LT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2" name="Picture 4" descr="IMG_7200"/>
          <p:cNvPicPr/>
          <p:nvPr/>
        </p:nvPicPr>
        <p:blipFill>
          <a:blip r:embed="rId1"/>
          <a:stretch/>
        </p:blipFill>
        <p:spPr>
          <a:xfrm>
            <a:off x="250920" y="522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t-LT" sz="36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avau, ko norėjau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mąstė boružė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ir toli gražu nesu laiminga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4" descr="boruze-61153473"/>
          <p:cNvPicPr/>
          <p:nvPr/>
        </p:nvPicPr>
        <p:blipFill>
          <a:blip r:embed="rId1"/>
          <a:stretch/>
        </p:blipFill>
        <p:spPr>
          <a:xfrm>
            <a:off x="3059280" y="2060640"/>
            <a:ext cx="5895720" cy="4537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ziogas-279x300"/>
          <p:cNvPicPr/>
          <p:nvPr/>
        </p:nvPicPr>
        <p:blipFill>
          <a:blip r:embed="rId2"/>
          <a:stretch/>
        </p:blipFill>
        <p:spPr>
          <a:xfrm>
            <a:off x="179280" y="1413000"/>
            <a:ext cx="26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i virusas, kuris gyvena pagal visus užkrečiamosios ligos dėsniu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hormonų (endorfinų, serotonino, dopamino) pakankamas kiek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i gera nuotaika, pozityvi pasaulėjauta, streso, nerimo ir jaudinimosi nebuvimas, psichologinė ir fizinė sveikat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okėjimas nugalėti kliūt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itikėjimas savim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atjauta žmonė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5" descr="kaip-uz-pinigus-nusipirkti-laime-19721"/>
          <p:cNvPicPr/>
          <p:nvPr/>
        </p:nvPicPr>
        <p:blipFill>
          <a:blip r:embed="rId2"/>
          <a:stretch/>
        </p:blipFill>
        <p:spPr>
          <a:xfrm>
            <a:off x="4356000" y="2205000"/>
            <a:ext cx="4464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Gerovės ekonomika remiasi objektyviais rodikliais - BVP (bendru visuminiu produktu), perkamąja galia, vidutinėmis pajamomis ir pa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Laimės ekonomika”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 ieško holistinių ir psichologinių rodiklių, bando įvertinti bendrą visuomenės laimės lygį, socialinį kapitalą, švietimo ir sveikatos apsaugos sistemų bei aplinkos, kurioje gyvenama, kokybę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Gerovės ekonomika bando paskatinti darbuotojus didesniu atlygiu, 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„laimės ekonomika“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 – darbo įprasminimu, kūrybiškumo ugdymu, darnių santykių darbo grupėse kūrimu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5 dienos (aš mažesnis už obuolio sėklelę, bet aš jau aš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40 savaičių (pagaliau matau mamą iš išorės, nors jau seniai pažįstu jos balsą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ūdikystė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opšel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aržel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riešmokyklinė grupė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7 savaitės die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15" descr="ka-daryti-kad-vaikas-augtu-laimingas-1769"/>
          <p:cNvPicPr/>
          <p:nvPr/>
        </p:nvPicPr>
        <p:blipFill>
          <a:blip r:embed="rId2"/>
          <a:stretch/>
        </p:blipFill>
        <p:spPr>
          <a:xfrm>
            <a:off x="1476360" y="220500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aiko ir tėvų ryšy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žaidimai, ieškojimai, svajonė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aiko gebėjimų ugdym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veikas vaikas – laimingas vaik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eidimas vaikams kovoti su problemom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okymas daryti prasmingus dalyku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ndravimas ir žinojimas, pagalbos suteikim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aimingas vaik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laimingas vaik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4" descr="IMG_7235"/>
          <p:cNvPicPr/>
          <p:nvPr/>
        </p:nvPicPr>
        <p:blipFill>
          <a:blip r:embed="rId2"/>
          <a:stretch/>
        </p:blipFill>
        <p:spPr>
          <a:xfrm>
            <a:off x="1619280" y="256536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8:31:14Z</dcterms:created>
  <dc:creator>Tropikai</dc:creator>
  <dc:description/>
  <dc:language>en-US</dc:language>
  <cp:lastModifiedBy>User</cp:lastModifiedBy>
  <dcterms:modified xsi:type="dcterms:W3CDTF">2015-05-26T09:58:33Z</dcterms:modified>
  <cp:revision>39</cp:revision>
  <dc:subject/>
  <dc:title>IKIMOKYKLINIO UGDYMO ĮSTAIGOS EDUKACINĖS APLINKOS PRITAIKYMAS APLINKOSAUGINIAM VAIKŲ UGDYMUI(SI)</dc:title>
</cp:coreProperties>
</file>