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7.png" ContentType="image/pn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3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36.jpeg" ContentType="image/jpe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FA3-E610-40C7-8470-3B06D23C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9B5-4768-4871-8E37-FD2D3CC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467-DF06-4EDE-AA4C-5EE89625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C0A-6E58-4386-96D6-8E6BD4BF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002-FE9B-4046-B6A9-1B01A1C8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852-014D-4FE8-950B-458DA93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F713-195C-4DF3-A16C-D4E39D9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3CDC-7EA0-4E09-9624-FCCE199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7EE0-4611-4EE1-85BF-45BA133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9276-C274-4025-A8DB-D46AA878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622-1815-49D3-86AF-79ED180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CB8-6052-4249-A923-678A96B9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449-2671-40B8-AEFB-EC9E17C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8A9D-CB60-44E8-9F5B-B2002DC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EE3-59BF-4471-80B9-30D9739A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95F6-DBEF-47C9-B38A-9F8B1676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F953-7528-4E0F-AD46-112663D4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E8C0-2037-4302-89AF-2F554FB0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E65C-CA5B-41A2-B465-8E84FF5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99D2-C362-4C2E-A757-7D4D414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A598-A3FC-4FB8-B650-8EFD4B7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59EF-0F28-4A20-A951-8E72D2A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52B-E9E6-486F-9F3B-32CF27B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CBBE-ADC0-4528-9915-8ECE3A8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ACF2-85A5-4268-805E-474ED46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37F7-1D4D-4A8A-BB2C-ABE0F89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CAEF-D28E-4D8F-885F-09EACD2E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28AE-9FD2-4627-ABE7-11C2A3F9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90BB-DB8B-4DE8-854A-509CF131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BDD8-94DC-4B80-BFCB-89613222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45BC-1E58-4746-98FB-5C577663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EF92-5658-4A85-824C-0F6AE8C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6FF8-33AD-4800-B22D-DB499F2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B17-D5B2-4C03-A2A6-840E2CD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47E70-1D95-4FA0-B631-797829C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9882-36C7-438A-AD33-167D4E3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AA0F-1BE3-40ED-B71A-7F661D3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ADB9-E895-4B5D-A561-93D39C8D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778A-0F72-4687-887C-0D594EA2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162D-7E76-4378-AD79-C843572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A17C-F768-4610-8E61-CE64C046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2C52-B555-40B8-A656-2AD105AC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A63E-B27D-499A-A8D0-843F98B8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A918-53F5-4959-B303-22CB844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99B-87CC-47DB-84D9-CAFF322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FBC5-402E-44AA-AFC4-A934651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BFB1-7CFB-4D27-8125-87FF235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526C-8DFB-4F3B-9FCD-31C0CA8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E4BA-1791-443E-9408-C37C4047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5EF0-E335-4455-9933-A3F2111A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D6DF-A391-4E64-BAA6-CA0F921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6F6D-9A18-4BDE-A529-3E68E2C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5BB3D-A259-43A6-AD75-609938A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5C8C-7919-4F4D-96BF-6CC342B5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BCEF-0083-4F2A-B3D8-EA082640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E3A-7EA9-45C8-A188-37D70CC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D465-2BED-40E7-95B2-B8A3EE84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D585-1469-47F6-9E4E-7C11659A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178C-78AD-402B-9485-6DCF505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76EDC-41D2-44DC-B4F3-3ACF65D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54C1-CE58-49FE-A5DF-8DD791D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DC7C-BC3C-4E28-90FB-D85CD03B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3CF5-2255-46A6-A397-26E5DF4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D10B-D488-43ED-AED6-393A5DB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ABE4-7D5C-4695-9A0F-766BADC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08FB-49F9-4452-B834-931C9D9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CB1-81BB-4F9F-8EFF-F356051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929A1-7675-41A8-957D-B35856B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FB87A-4FBC-4736-BA26-9FA55A52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800A-240B-4E33-8CC6-A3381EC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5A3CF-C539-4599-8E5D-AF4628FB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87C4-1761-450F-94B9-8B66245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B181-E310-4171-B728-E2C8F4A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3F11-9C58-4BBB-9B54-5B1349E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0BA1-A098-43C1-8670-602C83C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2A42-BA7F-4D56-A835-5993A71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FE78-9AA9-4189-8DB3-4349142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674-50CF-4B5B-A732-3471ED1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63992-7E11-4BA3-B4AD-1F29921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7906C-AE59-4174-BF94-C60A07E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E0C1-4262-4EE4-816A-E302F3D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8421-BE7A-42B9-AB92-04C98AAF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D766D-389F-4251-980E-9FFE30C5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F678-9ED2-4693-8662-3BD315EE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4AA18-E76C-48FE-8052-7FF95D6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0503-1713-4D1C-AADA-74049CE3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1C0B-B70C-4665-8044-84CF134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86A1B-603F-4B7F-A5B0-DABFDE1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D90-4253-4919-AF58-7570CF09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D866E-B203-40C1-9DDA-071C0A22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923A-D4F7-4244-8C73-B5D73796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0B68-57A9-4691-9F89-095D645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9FAE1-8226-4DB8-967C-320EEE5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F92CA-F3DF-4A26-8E44-F4C74B29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0730-F8B1-41CD-BDD8-5C88D442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9C40-005F-4499-8DB9-EEF659FD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186F-1011-44AD-9703-EF2FB401A3F0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392B-339E-474C-902E-20E80A2EADFE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CD5-D027-4C49-B01C-6E560E80B790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90F-E7B1-4B6A-9B5F-694006E04CC6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3EBA-78B2-47A9-A5AE-B3AEB310FEE5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F654-5E70-410A-862D-B858230EFDED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A30-0180-4050-A604-740BCF1AED63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2E8D-AB01-4D66-A67E-DC8BEE7D7ED5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755640" y="270828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258920" y="476280"/>
            <a:ext cx="7343640" cy="64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PANEVĖŽIO LOPŠELIS-DARŽELIS „</a:t>
            </a: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SIGUTĖ</a:t>
            </a: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Auklėtoja-metodininkė </a:t>
            </a: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Regina Macijauskienė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ptyni </a:t>
            </a:r>
            <a:r>
              <a:rPr b="1" lang="lt-LT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ngsneliai</a:t>
            </a:r>
            <a:r>
              <a:rPr b="1" lang="lt-LT" sz="4400" spc="-1" strike="noStrike">
                <a:solidFill>
                  <a:srgbClr val="000000"/>
                </a:solidFill>
                <a:latin typeface="Verdana"/>
              </a:rPr>
              <a:t> laimingos vaikystės lin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403280" y="5460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Panevėžys, 2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ma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, kuri sukuria ryšį su vaiku, padaro vieną svarbiausių žingsnių garantuodama ne ti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aimingą vaikystę, bet ir laimingą gyvenim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ar-tikrai-atgyveno-tradicine-seima-2"/>
          <p:cNvPicPr/>
          <p:nvPr/>
        </p:nvPicPr>
        <p:blipFill>
          <a:blip r:embed="rId2"/>
          <a:stretch/>
        </p:blipFill>
        <p:spPr>
          <a:xfrm>
            <a:off x="1547640" y="3213000"/>
            <a:ext cx="6153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kuria gerą nuotaiką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ugdo vaiko įgūdži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džia atrasti mėgstamiausius dalyk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Seima"/>
          <p:cNvPicPr/>
          <p:nvPr/>
        </p:nvPicPr>
        <p:blipFill>
          <a:blip r:embed="rId2"/>
          <a:stretch/>
        </p:blipFill>
        <p:spPr>
          <a:xfrm>
            <a:off x="2195640" y="2997360"/>
            <a:ext cx="432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r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ūrizuota ir vaikų inicijuota veikla, kuriai nekeliami suaugusiųjų sugalvoti tikslai ir reikalavimai bei veiklos principa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alimybė vaikui pačiam spręsti uždavinius savo temp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iemonės, kurios neturi paskirties ir gali būti naudojamos skirtingais būdais; įvairios medžiagos; daiktai iš realaus pasaulio, o ne pirktiniai žaisl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4" descr="100_1470"/>
          <p:cNvPicPr/>
          <p:nvPr/>
        </p:nvPicPr>
        <p:blipFill>
          <a:blip r:embed="rId2"/>
          <a:stretch/>
        </p:blipFill>
        <p:spPr>
          <a:xfrm>
            <a:off x="468360" y="1484280"/>
            <a:ext cx="8169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IMG_7192"/>
          <p:cNvPicPr/>
          <p:nvPr/>
        </p:nvPicPr>
        <p:blipFill>
          <a:blip r:embed="rId2"/>
          <a:stretch/>
        </p:blipFill>
        <p:spPr>
          <a:xfrm>
            <a:off x="971640" y="1481040"/>
            <a:ext cx="7416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ieg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fizinė veikl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ilnavertė sveika mityb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5" descr="DSC05527"/>
          <p:cNvPicPr/>
          <p:nvPr/>
        </p:nvPicPr>
        <p:blipFill>
          <a:blip r:embed="rId2"/>
          <a:stretch/>
        </p:blipFill>
        <p:spPr>
          <a:xfrm>
            <a:off x="1547640" y="2852640"/>
            <a:ext cx="6121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ui būtina patirti visus jausmus, kad susipažintų su ne visada rožiniu pasauliu ir surastų būdus nuotaikai pakeist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sdami vaikams patirti visas patirtis, net sudėtingas ir sukeliančias nusivylimą, padedame vaikams susikurti vidinę stiprybę, kuri veda į laimę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reikia saugoti vaikų nuo gyvenimo, kuriame gausu ir gero, ir blo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galba kitiems yra viena emociškai naudingiausių veikl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ėgavimasis mažais dalyka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ozityvaus elgesio modeli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5" descr="stikline_tuscia_pilna_px300"/>
          <p:cNvPicPr/>
          <p:nvPr/>
        </p:nvPicPr>
        <p:blipFill>
          <a:blip r:embed="rId2"/>
          <a:stretch/>
        </p:blipFill>
        <p:spPr>
          <a:xfrm>
            <a:off x="2411280" y="3284640"/>
            <a:ext cx="52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tik kalbėtis, bet ir klausyt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eisė liūdėti ir teisė pyk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malu yra kartais jaustis blogai dėl aplinkos poveik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sti pabūti vienumoj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 puikiai gali pats, bet, jei mūsų reikės, mes esame šalia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tebėjus nuolatinius “nelaimingumo” signalus kreiptis į specialistus pagalb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teikti geras emocijas ir patirt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ytis mylėti pasaulį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 vaiku kalbėtis, bendraut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ūpintis vaika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galinė meilė, atsidavimas, glaudus ryšys šeimo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9" descr="nimavikegimakiladupudojepokare"/>
          <p:cNvPicPr/>
          <p:nvPr/>
        </p:nvPicPr>
        <p:blipFill>
          <a:blip r:embed="rId2"/>
          <a:stretch/>
        </p:blipFill>
        <p:spPr>
          <a:xfrm>
            <a:off x="2556000" y="3716280"/>
            <a:ext cx="4968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grįsti lūkesčia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šeim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įdomus darb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Universali laimės formulė nuotrauka, foto"/>
          <p:cNvPicPr/>
          <p:nvPr/>
        </p:nvPicPr>
        <p:blipFill>
          <a:blip r:embed="rId2"/>
          <a:stretch/>
        </p:blipFill>
        <p:spPr>
          <a:xfrm>
            <a:off x="4284720" y="620640"/>
            <a:ext cx="46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ūdamas su vaiku būk su juo ne tik kūnu, bet ir mintim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Žaisk vaiko žaidimu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ą nors gamink ar taisyk kartu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Išmokyk savo vaiką naujų dalykų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rėk kelias minutes per dieną, kurios būtų skirtos jausmam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rėk šeimos ritualų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2" name="Picture 4" descr="IMG_7200"/>
          <p:cNvPicPr/>
          <p:nvPr/>
        </p:nvPicPr>
        <p:blipFill>
          <a:blip r:embed="rId1"/>
          <a:stretch/>
        </p:blipFill>
        <p:spPr>
          <a:xfrm>
            <a:off x="250920" y="522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avau, ko norėjau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mąstė boružė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ir toli gražu nesu laiminga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4" descr="boruze-61153473"/>
          <p:cNvPicPr/>
          <p:nvPr/>
        </p:nvPicPr>
        <p:blipFill>
          <a:blip r:embed="rId1"/>
          <a:stretch/>
        </p:blipFill>
        <p:spPr>
          <a:xfrm>
            <a:off x="3059280" y="2060640"/>
            <a:ext cx="5895720" cy="4537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ziogas-279x300"/>
          <p:cNvPicPr/>
          <p:nvPr/>
        </p:nvPicPr>
        <p:blipFill>
          <a:blip r:embed="rId2"/>
          <a:stretch/>
        </p:blipFill>
        <p:spPr>
          <a:xfrm>
            <a:off x="179280" y="1413000"/>
            <a:ext cx="26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i virusas, kuris gyvena pagal visus užkrečiamosios ligos dėsni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hormonų (endorfinų, serotonino, dopamino) pakankamas kiek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i gera nuotaika, pozityvi pasaulėjauta, streso, nerimo ir jaudinimosi nebuvimas, psichologinė ir fizinė sveikat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ėjimas nugalėti kliūt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itikėjimas savi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atjauta žmonė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5" descr="kaip-uz-pinigus-nusipirkti-laime-19721"/>
          <p:cNvPicPr/>
          <p:nvPr/>
        </p:nvPicPr>
        <p:blipFill>
          <a:blip r:embed="rId2"/>
          <a:stretch/>
        </p:blipFill>
        <p:spPr>
          <a:xfrm>
            <a:off x="4356000" y="220500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Gerovės ekonomika remiasi objektyviais rodikliais - BVP (bendru visuminiu produktu), perkamąja galia, vidutinėmis pajamomis ir p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Laimės ekonomika”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 ieško holistinių ir psichologinių rodiklių, bando įvertinti bendrą visuomenės laimės lygį, socialinį kapitalą, švietimo ir sveikatos apsaugos sistemų bei aplinkos, kurioje gyvenama, kokybę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Gerovės ekonomika bando paskatinti darbuotojus didesniu atlygiu,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„laimės ekonomika“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 – darbo įprasminimu, kūrybiškumo ugdymu, darnių santykių darbo grupėse kūrimu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5 dienos (aš mažesnis už obuolio sėklelę, bet aš jau aš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40 savaičių (pagaliau matau mamą iš išorės, nors jau seniai pažįstu jos balsą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ūdikystė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opšel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aržel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iešmokyklinė grup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7 savaitės die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15" descr="ka-daryti-kad-vaikas-augtu-laimingas-1769"/>
          <p:cNvPicPr/>
          <p:nvPr/>
        </p:nvPicPr>
        <p:blipFill>
          <a:blip r:embed="rId2"/>
          <a:stretch/>
        </p:blipFill>
        <p:spPr>
          <a:xfrm>
            <a:off x="1476360" y="220500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o ir tėvų ryšy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žaidimai, ieškojimai, svajonė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o gebėjimų ugdym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veikas vaikas – laimingas vaik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dimas vaikams kovoti su problemo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ymas daryti prasmingus dalyk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ndravimas ir žinojimas, pagalbos suteikim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aimingas vaik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laimingas vaik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4" descr="IMG_7235"/>
          <p:cNvPicPr/>
          <p:nvPr/>
        </p:nvPicPr>
        <p:blipFill>
          <a:blip r:embed="rId2"/>
          <a:stretch/>
        </p:blipFill>
        <p:spPr>
          <a:xfrm>
            <a:off x="1619280" y="2565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8:31:14Z</dcterms:created>
  <dc:creator>Tropikai</dc:creator>
  <dc:description/>
  <dc:language>en-US</dc:language>
  <cp:lastModifiedBy>User</cp:lastModifiedBy>
  <dcterms:modified xsi:type="dcterms:W3CDTF">2015-05-26T09:58:33Z</dcterms:modified>
  <cp:revision>39</cp:revision>
  <dc:subject/>
  <dc:title>IKIMOKYKLINIO UGDYMO ĮSTAIGOS EDUKACINĖS APLINKOS PRITAIKYMAS APLINKOSAUGINIAM VAIKŲ UGDYMUI(SI)</dc:title>
</cp:coreProperties>
</file>