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2.png" ContentType="image/png"/>
  <Override PartName="/ppt/media/image4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5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36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49.jpeg" ContentType="image/jpeg"/>
  <Override PartName="/ppt/media/image54.jpeg" ContentType="image/jpeg"/>
  <Override PartName="/ppt/media/image55.jpeg" ContentType="image/jpeg"/>
  <Override PartName="/ppt/media/image56.jpeg" ContentType="image/jpeg"/>
  <Override PartName="/ppt/media/image5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52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51C5-49EC-40A9-A4BF-3F8F698F1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33C6-493F-4D4A-A6BC-519B2BD0D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7B81-490E-43BF-87A5-DEDB3B31B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A9D3-D82B-41ED-BAB0-D0466560F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D102-3031-4150-81B6-D537C79F8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7D34-49BC-4CA4-A654-FCDC211C2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21D8-293F-4CED-B712-057CD31EE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52D8-4C0E-4039-A696-2B90835BB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0E62-3156-4929-80FD-BE2F89537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3A66-73B4-462C-BDC0-B9A8DCF99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B95F-5B09-4D0D-90FD-F8A0C5C19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2EB5-B958-4340-98EA-0C5D06EEF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2446F-A56A-4384-B6E9-AD33575D0521}" type="slidenum">
              <a:rPr b="0" lang="lt-L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image" Target="../media/image34.jpe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image" Target="../media/image53.jpeg"/><Relationship Id="rId5" Type="http://schemas.openxmlformats.org/officeDocument/2006/relationships/image" Target="../media/image54.jpeg"/><Relationship Id="rId6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5.jpeg"/><Relationship Id="rId3" Type="http://schemas.openxmlformats.org/officeDocument/2006/relationships/image" Target="../media/image56.jpeg"/><Relationship Id="rId4" Type="http://schemas.openxmlformats.org/officeDocument/2006/relationships/image" Target="../media/image57.jpeg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54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1" lang="lt-LT" sz="5400" spc="-1" strike="noStrike">
                <a:solidFill>
                  <a:srgbClr val="000000"/>
                </a:solidFill>
                <a:latin typeface="Calibri"/>
              </a:rPr>
              <a:t>Ilgais žiemos vakarais ...“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000000"/>
                </a:solidFill>
                <a:latin typeface="Calibri"/>
              </a:rPr>
              <a:t>(„Kūrybinės dirbtuvėlės“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lt-LT" sz="3600" spc="-1" strike="noStrike">
                <a:solidFill>
                  <a:srgbClr val="000000"/>
                </a:solidFill>
                <a:latin typeface="Calibri"/>
              </a:rPr>
              <a:t>Advento vakaronė“ 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engė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ešmokyklinio ugdymo pedagogė-metodininkė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lena Juraškienė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6084720" y="57240"/>
            <a:ext cx="2733840" cy="13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000000"/>
                </a:solidFill>
                <a:latin typeface="Calibri"/>
              </a:rPr>
              <a:t>2013 m. Kūrybinių dirbtuvėlių akimirko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Content Placeholder 3" descr=""/>
          <p:cNvPicPr/>
          <p:nvPr/>
        </p:nvPicPr>
        <p:blipFill>
          <a:blip r:embed="rId2"/>
          <a:stretch/>
        </p:blipFill>
        <p:spPr>
          <a:xfrm>
            <a:off x="5148360" y="2376360"/>
            <a:ext cx="3409920" cy="25574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"/>
          <p:cNvPicPr/>
          <p:nvPr/>
        </p:nvPicPr>
        <p:blipFill>
          <a:blip r:embed="rId3"/>
          <a:stretch/>
        </p:blipFill>
        <p:spPr>
          <a:xfrm>
            <a:off x="900000" y="2349360"/>
            <a:ext cx="344484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000000"/>
                </a:solidFill>
                <a:latin typeface="Calibri"/>
              </a:rPr>
              <a:t>2013 m. Kūrybinių dirbtuvėlių akimirko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Content Placeholder 3" descr=""/>
          <p:cNvPicPr/>
          <p:nvPr/>
        </p:nvPicPr>
        <p:blipFill>
          <a:blip r:embed="rId2"/>
          <a:stretch/>
        </p:blipFill>
        <p:spPr>
          <a:xfrm>
            <a:off x="900000" y="2781360"/>
            <a:ext cx="2880000" cy="2160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"/>
          <p:cNvPicPr/>
          <p:nvPr/>
        </p:nvPicPr>
        <p:blipFill>
          <a:blip r:embed="rId3"/>
          <a:stretch/>
        </p:blipFill>
        <p:spPr>
          <a:xfrm>
            <a:off x="5052960" y="2781360"/>
            <a:ext cx="2975040" cy="223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000000"/>
                </a:solidFill>
                <a:latin typeface="Calibri"/>
              </a:rPr>
              <a:t>2013 m. Kūrybinių dirbtuvėlių akimirko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Content Placeholder 3" descr=""/>
          <p:cNvPicPr/>
          <p:nvPr/>
        </p:nvPicPr>
        <p:blipFill>
          <a:blip r:embed="rId2"/>
          <a:stretch/>
        </p:blipFill>
        <p:spPr>
          <a:xfrm>
            <a:off x="684360" y="1773360"/>
            <a:ext cx="2944800" cy="22082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"/>
          <p:cNvPicPr/>
          <p:nvPr/>
        </p:nvPicPr>
        <p:blipFill>
          <a:blip r:embed="rId3"/>
          <a:stretch/>
        </p:blipFill>
        <p:spPr>
          <a:xfrm>
            <a:off x="5100480" y="1773360"/>
            <a:ext cx="2918160" cy="2187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"/>
          <p:cNvPicPr/>
          <p:nvPr/>
        </p:nvPicPr>
        <p:blipFill>
          <a:blip r:embed="rId4"/>
          <a:stretch/>
        </p:blipFill>
        <p:spPr>
          <a:xfrm>
            <a:off x="3203640" y="4130640"/>
            <a:ext cx="3014640" cy="22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000000"/>
                </a:solidFill>
                <a:latin typeface="Calibri"/>
              </a:rPr>
              <a:t>2014 m. Kūrybinių dirbtuvėlių akimirko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Content Placeholder 3" descr=""/>
          <p:cNvPicPr/>
          <p:nvPr/>
        </p:nvPicPr>
        <p:blipFill>
          <a:blip r:embed="rId2"/>
          <a:stretch/>
        </p:blipFill>
        <p:spPr>
          <a:xfrm>
            <a:off x="900000" y="1592280"/>
            <a:ext cx="3024360" cy="2268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"/>
          <p:cNvPicPr/>
          <p:nvPr/>
        </p:nvPicPr>
        <p:blipFill>
          <a:blip r:embed="rId3"/>
          <a:stretch/>
        </p:blipFill>
        <p:spPr>
          <a:xfrm>
            <a:off x="4788000" y="1558800"/>
            <a:ext cx="3116160" cy="23385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"/>
          <p:cNvPicPr/>
          <p:nvPr/>
        </p:nvPicPr>
        <p:blipFill>
          <a:blip r:embed="rId4"/>
          <a:stretch/>
        </p:blipFill>
        <p:spPr>
          <a:xfrm>
            <a:off x="900000" y="4221000"/>
            <a:ext cx="3024360" cy="2268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"/>
          <p:cNvPicPr/>
          <p:nvPr/>
        </p:nvPicPr>
        <p:blipFill>
          <a:blip r:embed="rId5"/>
          <a:stretch/>
        </p:blipFill>
        <p:spPr>
          <a:xfrm>
            <a:off x="4795920" y="4221000"/>
            <a:ext cx="3024000" cy="22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000000"/>
                </a:solidFill>
                <a:latin typeface="Calibri"/>
              </a:rPr>
              <a:t>2014 m. Kūrybinių dirbtuvėlių akimirko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Content Placeholder 3" descr=""/>
          <p:cNvPicPr/>
          <p:nvPr/>
        </p:nvPicPr>
        <p:blipFill>
          <a:blip r:embed="rId2"/>
          <a:stretch/>
        </p:blipFill>
        <p:spPr>
          <a:xfrm>
            <a:off x="826920" y="1916280"/>
            <a:ext cx="2689560" cy="20174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"/>
          <p:cNvPicPr/>
          <p:nvPr/>
        </p:nvPicPr>
        <p:blipFill>
          <a:blip r:embed="rId3"/>
          <a:stretch/>
        </p:blipFill>
        <p:spPr>
          <a:xfrm>
            <a:off x="5364000" y="1916280"/>
            <a:ext cx="2687760" cy="20174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" descr=""/>
          <p:cNvPicPr/>
          <p:nvPr/>
        </p:nvPicPr>
        <p:blipFill>
          <a:blip r:embed="rId4"/>
          <a:stretch/>
        </p:blipFill>
        <p:spPr>
          <a:xfrm>
            <a:off x="826920" y="4292640"/>
            <a:ext cx="2689560" cy="2016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"/>
          <p:cNvPicPr/>
          <p:nvPr/>
        </p:nvPicPr>
        <p:blipFill>
          <a:blip r:embed="rId5"/>
          <a:stretch/>
        </p:blipFill>
        <p:spPr>
          <a:xfrm>
            <a:off x="5359320" y="4368960"/>
            <a:ext cx="2692440" cy="20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000000"/>
                </a:solidFill>
                <a:latin typeface="Calibri"/>
              </a:rPr>
              <a:t>2014 m. Kūrybinių dirbtuvėlių akimirko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Content Placeholder 3" descr=""/>
          <p:cNvPicPr/>
          <p:nvPr/>
        </p:nvPicPr>
        <p:blipFill>
          <a:blip r:embed="rId2"/>
          <a:stretch/>
        </p:blipFill>
        <p:spPr>
          <a:xfrm>
            <a:off x="684360" y="1773360"/>
            <a:ext cx="2782800" cy="20872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"/>
          <p:cNvPicPr/>
          <p:nvPr/>
        </p:nvPicPr>
        <p:blipFill>
          <a:blip r:embed="rId3"/>
          <a:stretch/>
        </p:blipFill>
        <p:spPr>
          <a:xfrm>
            <a:off x="5435640" y="1771560"/>
            <a:ext cx="2976480" cy="2232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"/>
          <p:cNvPicPr/>
          <p:nvPr/>
        </p:nvPicPr>
        <p:blipFill>
          <a:blip r:embed="rId4"/>
          <a:stretch/>
        </p:blipFill>
        <p:spPr>
          <a:xfrm>
            <a:off x="684360" y="4365720"/>
            <a:ext cx="2808000" cy="21049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"/>
          <p:cNvPicPr/>
          <p:nvPr/>
        </p:nvPicPr>
        <p:blipFill>
          <a:blip r:embed="rId5"/>
          <a:stretch/>
        </p:blipFill>
        <p:spPr>
          <a:xfrm>
            <a:off x="5435640" y="4365720"/>
            <a:ext cx="297648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000000"/>
                </a:solidFill>
                <a:latin typeface="Calibri"/>
              </a:rPr>
              <a:t>2014 m. Kūrybinių dirbtuvėlių akimirko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Content Placeholder 3" descr=""/>
          <p:cNvPicPr/>
          <p:nvPr/>
        </p:nvPicPr>
        <p:blipFill>
          <a:blip r:embed="rId2"/>
          <a:stretch/>
        </p:blipFill>
        <p:spPr>
          <a:xfrm>
            <a:off x="1403280" y="1969920"/>
            <a:ext cx="2376720" cy="17812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"/>
          <p:cNvPicPr/>
          <p:nvPr/>
        </p:nvPicPr>
        <p:blipFill>
          <a:blip r:embed="rId3"/>
          <a:stretch/>
        </p:blipFill>
        <p:spPr>
          <a:xfrm>
            <a:off x="5219640" y="2000160"/>
            <a:ext cx="2376720" cy="17827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"/>
          <p:cNvPicPr/>
          <p:nvPr/>
        </p:nvPicPr>
        <p:blipFill>
          <a:blip r:embed="rId4"/>
          <a:stretch/>
        </p:blipFill>
        <p:spPr>
          <a:xfrm>
            <a:off x="1403280" y="4219560"/>
            <a:ext cx="2400480" cy="18003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"/>
          <p:cNvPicPr/>
          <p:nvPr/>
        </p:nvPicPr>
        <p:blipFill>
          <a:blip r:embed="rId5"/>
          <a:stretch/>
        </p:blipFill>
        <p:spPr>
          <a:xfrm>
            <a:off x="5195880" y="4219560"/>
            <a:ext cx="240048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000000"/>
                </a:solidFill>
                <a:latin typeface="Calibri"/>
              </a:rPr>
              <a:t>2014 m. Kūrybinių dirbtuvėlių akimirko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Content Placeholder 3" descr=""/>
          <p:cNvPicPr/>
          <p:nvPr/>
        </p:nvPicPr>
        <p:blipFill>
          <a:blip r:embed="rId2"/>
          <a:stretch/>
        </p:blipFill>
        <p:spPr>
          <a:xfrm>
            <a:off x="1763640" y="1619280"/>
            <a:ext cx="2303640" cy="17287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"/>
          <p:cNvPicPr/>
          <p:nvPr/>
        </p:nvPicPr>
        <p:blipFill>
          <a:blip r:embed="rId3"/>
          <a:stretch/>
        </p:blipFill>
        <p:spPr>
          <a:xfrm>
            <a:off x="4859280" y="1628640"/>
            <a:ext cx="2376720" cy="17827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4"/>
          <a:stretch/>
        </p:blipFill>
        <p:spPr>
          <a:xfrm>
            <a:off x="1008000" y="3789360"/>
            <a:ext cx="2305080" cy="17272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"/>
          <p:cNvPicPr/>
          <p:nvPr/>
        </p:nvPicPr>
        <p:blipFill>
          <a:blip r:embed="rId5"/>
          <a:stretch/>
        </p:blipFill>
        <p:spPr>
          <a:xfrm>
            <a:off x="3564000" y="3762360"/>
            <a:ext cx="2376360" cy="17812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"/>
          <p:cNvPicPr/>
          <p:nvPr/>
        </p:nvPicPr>
        <p:blipFill>
          <a:blip r:embed="rId6"/>
          <a:stretch/>
        </p:blipFill>
        <p:spPr>
          <a:xfrm>
            <a:off x="6227640" y="3789360"/>
            <a:ext cx="230508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457200" y="40428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švado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ūrybinių dirbtuvėlių“ metu gaminant įvairius darbelius lavėjo kūrybiniai, komunikaciniai ir pažintiniai vaikų gebėjima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kurta palanki, aktyvi ir kūrybą skatinanti aplinka atskleidė ugdytinių kūrybiškum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ūrybinių dirbtuvėlių metu lavėjo ugdytinių kūrybinis mąstyma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ūrybinių dirbtuvėlių metu vaikai išreiškė save ir tobulino komandinį darb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57200" y="40428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švado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yko glaudus bendradarbiavimas: vaikai → pedagogai → vaikų tėveliai ir mamo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ganizuojant Kūrybines dirbtuvėles buvo atsižvelgta į natūralius vaikų poreikius, interesu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549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ūrybinės dirbtuvėlės. Ilgi žiemos vakarai..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Ugdytinių tėvų kūrybinės valandėlės su vaikais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ukmė: </a:t>
            </a:r>
            <a:r>
              <a:rPr b="0" lang="lt-LT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3 ir 2014 kalendoriniai meta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ūrybinių dirbtuvėlių kuratorė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ktorė Laima Krajašienė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ordinatorė: </a:t>
            </a:r>
            <a:r>
              <a:rPr b="0" lang="lt-LT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ktorės pavaduotoja ugdymui Erika Kladk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ganizatoriai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uno lopšelio - darželio „Malūnėlis“ ugdytinių tėveliai ir pedagoga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lyviai: </a:t>
            </a:r>
            <a:r>
              <a:rPr b="0" lang="lt-LT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uno lopšelio - darželio „Malūnėlis“ ugdytiniai (3 – 7 metų vaikai), jų tėveliai, pedagogai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vento vakaronė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ganizatoriai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uno lopšelio - darželio „Malūnėlis“ muzikos mokytoja – metodininkė Rasa Zavistanavičienė ir grupės pedagogai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lyviai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uno lopšelio - darželio „Malūnėlis“ ugdytiniai, pedagogai, vaikų tėveliai ir kiti šeimos nariai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eta 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uno lopšelio - darželio „Malūnėlis“ salė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ikas 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ekvienais metais, gruodžio mėn. likus vienai savaitei iki šv. Kalėdų 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ksla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oselėti lietuvių liaudies tradicijas ir papročiu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ždaviniai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duoti protėvių išmintį, tradicijas, kurios keliauja iš kartos į kartą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vento vakaronės dalyviai bendraus ir bendradarbiaus šeimomis visą vakarą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inuos Adventines dainas, žais Adventinius žaidimus, supras lietuvių liaudies papročių prasmę, taurumą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ekviena šeima papasakos apie tradicijas, pristatys Adventinį patiekalą  ir Adventinį žibintą, jo gamybos procesą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0" lang="lt-LT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turių angelų“ pagalba sužinos Advento savaičių pavadinimus ir darbus kuriuos reikia dirbti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teikti per religines giesmeles ir maldeles tikrąją Advento prasmę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kurti jautrią ir šiltą vakaro atmosferą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urinys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atralizuota Advento vakaronės dalis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ždegamos 4 Advento vainiko žvakelės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edamos Advento giesmelės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inuojamos dainos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klamuojami eilėraščiai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okami rateliai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ikų tėveliai pristato savo šeimos tradicinį Advento ar Kūčių valgį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Žaidžiami žaidimai, įtraukiant visus šeimos narius, pedagogus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ventinių žibintų pristatymas. Kūrimo ir gamybos procesas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0" lang="lt-LT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rtų traukimas“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Žaidimai su visais „Advento vakaronės bendruomenės“ nariais.</a:t>
            </a:r>
            <a:r>
              <a:rPr b="0" lang="lt-LT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t-LT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ukiami rezultatai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ndravimas ir bendradarbiavimas taps glaudesnis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vento vakaronės metu formuosis vertybinės nuostatos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vento vakaronės dalyviai pajus tikrąją adventinio laikotarpio prasmę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vento vakaronė suburs tris kartas: vaikus, tėvus ir senelius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inos, giesmės, eilės ... – palies jautriausią kertelę sieloje, o širdys prisipildys meilės, gerumo, džiaugsmo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jus ir supras, kad bendravimas – vertybė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bulins savo komunikavimo, vaidybos, meninius gebėjimu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Calibri"/>
              </a:rPr>
              <a:t>Advento vakaronės akimirk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Content Placeholder 4" descr=""/>
          <p:cNvPicPr/>
          <p:nvPr/>
        </p:nvPicPr>
        <p:blipFill>
          <a:blip r:embed="rId2"/>
          <a:stretch/>
        </p:blipFill>
        <p:spPr>
          <a:xfrm>
            <a:off x="539640" y="2276640"/>
            <a:ext cx="3816360" cy="28018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"/>
          <p:cNvPicPr/>
          <p:nvPr/>
        </p:nvPicPr>
        <p:blipFill>
          <a:blip r:embed="rId3"/>
          <a:stretch/>
        </p:blipFill>
        <p:spPr>
          <a:xfrm>
            <a:off x="4500720" y="2276640"/>
            <a:ext cx="385128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Calibri"/>
              </a:rPr>
              <a:t>Advento vakaronės akimirk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Content Placeholder 3" descr=""/>
          <p:cNvPicPr/>
          <p:nvPr/>
        </p:nvPicPr>
        <p:blipFill>
          <a:blip r:embed="rId2"/>
          <a:stretch/>
        </p:blipFill>
        <p:spPr>
          <a:xfrm>
            <a:off x="324000" y="1700280"/>
            <a:ext cx="3855960" cy="27702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"/>
          <p:cNvPicPr/>
          <p:nvPr/>
        </p:nvPicPr>
        <p:blipFill>
          <a:blip r:embed="rId3"/>
          <a:stretch/>
        </p:blipFill>
        <p:spPr>
          <a:xfrm>
            <a:off x="4788000" y="3548160"/>
            <a:ext cx="4113000" cy="30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Calibri"/>
              </a:rPr>
              <a:t>Advento vakaronės akimirk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Content Placeholder 5" descr=""/>
          <p:cNvPicPr/>
          <p:nvPr/>
        </p:nvPicPr>
        <p:blipFill>
          <a:blip r:embed="rId2"/>
          <a:stretch/>
        </p:blipFill>
        <p:spPr>
          <a:xfrm>
            <a:off x="395280" y="2349360"/>
            <a:ext cx="4510080" cy="33022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"/>
          <p:cNvPicPr/>
          <p:nvPr/>
        </p:nvPicPr>
        <p:blipFill>
          <a:blip r:embed="rId3"/>
          <a:stretch/>
        </p:blipFill>
        <p:spPr>
          <a:xfrm>
            <a:off x="5076720" y="1773360"/>
            <a:ext cx="35766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Calibri"/>
              </a:rPr>
              <a:t>Advento vakaronės akimirk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Content Placeholder 3" descr=""/>
          <p:cNvPicPr/>
          <p:nvPr/>
        </p:nvPicPr>
        <p:blipFill>
          <a:blip r:embed="rId2"/>
          <a:stretch/>
        </p:blipFill>
        <p:spPr>
          <a:xfrm>
            <a:off x="755640" y="1844640"/>
            <a:ext cx="3265560" cy="44974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"/>
          <p:cNvPicPr/>
          <p:nvPr/>
        </p:nvPicPr>
        <p:blipFill>
          <a:blip r:embed="rId3"/>
          <a:stretch/>
        </p:blipFill>
        <p:spPr>
          <a:xfrm>
            <a:off x="5326200" y="1844640"/>
            <a:ext cx="3251160" cy="43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Calibri"/>
              </a:rPr>
              <a:t>Advento vakaronės akimirk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Content Placeholder 3" descr=""/>
          <p:cNvPicPr/>
          <p:nvPr/>
        </p:nvPicPr>
        <p:blipFill>
          <a:blip r:embed="rId2"/>
          <a:stretch/>
        </p:blipFill>
        <p:spPr>
          <a:xfrm>
            <a:off x="539640" y="2276640"/>
            <a:ext cx="4535640" cy="32400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"/>
          <p:cNvPicPr/>
          <p:nvPr/>
        </p:nvPicPr>
        <p:blipFill>
          <a:blip r:embed="rId3"/>
          <a:stretch/>
        </p:blipFill>
        <p:spPr>
          <a:xfrm>
            <a:off x="5364000" y="1844640"/>
            <a:ext cx="3287880" cy="45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uno lopšelio – darželio „Malūnėlis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2 – 2015 m. strateginio plano vienas iš uždavinių buvo –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kurti vaikų kūrybiškumo ugdymui optimalias sąly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Calibri"/>
              </a:rPr>
              <a:t>Advento vakaronės akimirk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Content Placeholder 3" descr=""/>
          <p:cNvPicPr/>
          <p:nvPr/>
        </p:nvPicPr>
        <p:blipFill>
          <a:blip r:embed="rId2"/>
          <a:stretch/>
        </p:blipFill>
        <p:spPr>
          <a:xfrm>
            <a:off x="611280" y="1700280"/>
            <a:ext cx="3668760" cy="26971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"/>
          <p:cNvPicPr/>
          <p:nvPr/>
        </p:nvPicPr>
        <p:blipFill>
          <a:blip r:embed="rId3"/>
          <a:stretch/>
        </p:blipFill>
        <p:spPr>
          <a:xfrm>
            <a:off x="4500720" y="3357720"/>
            <a:ext cx="4211640" cy="30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Calibri"/>
              </a:rPr>
              <a:t>Advento vakaronės akimirk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Content Placeholder 3" descr=""/>
          <p:cNvPicPr/>
          <p:nvPr/>
        </p:nvPicPr>
        <p:blipFill>
          <a:blip r:embed="rId2"/>
          <a:stretch/>
        </p:blipFill>
        <p:spPr>
          <a:xfrm>
            <a:off x="324000" y="1628640"/>
            <a:ext cx="3983040" cy="28512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" descr=""/>
          <p:cNvPicPr/>
          <p:nvPr/>
        </p:nvPicPr>
        <p:blipFill>
          <a:blip r:embed="rId3"/>
          <a:stretch/>
        </p:blipFill>
        <p:spPr>
          <a:xfrm>
            <a:off x="4572000" y="3357720"/>
            <a:ext cx="4189320" cy="30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Calibri"/>
              </a:rPr>
              <a:t>Advento vakaronės akimirk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Content Placeholder 3" descr=""/>
          <p:cNvPicPr/>
          <p:nvPr/>
        </p:nvPicPr>
        <p:blipFill>
          <a:blip r:embed="rId2"/>
          <a:stretch/>
        </p:blipFill>
        <p:spPr>
          <a:xfrm>
            <a:off x="536400" y="1628640"/>
            <a:ext cx="3972240" cy="28926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4" descr=""/>
          <p:cNvPicPr/>
          <p:nvPr/>
        </p:nvPicPr>
        <p:blipFill>
          <a:blip r:embed="rId3"/>
          <a:stretch/>
        </p:blipFill>
        <p:spPr>
          <a:xfrm>
            <a:off x="4500720" y="3357720"/>
            <a:ext cx="4427280" cy="32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71640" y="333360"/>
            <a:ext cx="777240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Calibri"/>
              </a:rPr>
              <a:t>Advento vakaronės akimirk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911160" y="1082520"/>
            <a:ext cx="3227400" cy="2421000"/>
          </a:xfrm>
          <a:prstGeom prst="rect">
            <a:avLst/>
          </a:prstGeom>
          <a:ln w="0">
            <a:noFill/>
          </a:ln>
        </p:spPr>
      </p:pic>
      <p:pic>
        <p:nvPicPr>
          <p:cNvPr id="124" name="Content Placeholder 3" descr=""/>
          <p:cNvPicPr/>
          <p:nvPr/>
        </p:nvPicPr>
        <p:blipFill>
          <a:blip r:embed="rId3"/>
          <a:stretch/>
        </p:blipFill>
        <p:spPr>
          <a:xfrm>
            <a:off x="5148360" y="1082520"/>
            <a:ext cx="3227400" cy="2421000"/>
          </a:xfrm>
          <a:prstGeom prst="rect">
            <a:avLst/>
          </a:prstGeom>
          <a:ln w="0">
            <a:noFill/>
          </a:ln>
        </p:spPr>
      </p:pic>
      <p:pic>
        <p:nvPicPr>
          <p:cNvPr id="125" name="Content Placeholder 3" descr=""/>
          <p:cNvPicPr/>
          <p:nvPr/>
        </p:nvPicPr>
        <p:blipFill>
          <a:blip r:embed="rId4"/>
          <a:stretch/>
        </p:blipFill>
        <p:spPr>
          <a:xfrm>
            <a:off x="911160" y="3909960"/>
            <a:ext cx="3227400" cy="24210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"/>
          <p:cNvPicPr/>
          <p:nvPr/>
        </p:nvPicPr>
        <p:blipFill>
          <a:blip r:embed="rId5"/>
          <a:stretch/>
        </p:blipFill>
        <p:spPr>
          <a:xfrm>
            <a:off x="5076720" y="3860640"/>
            <a:ext cx="327528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Calibri"/>
              </a:rPr>
              <a:t>Advento vakaronės akimirk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Content Placeholder 3" descr=""/>
          <p:cNvPicPr/>
          <p:nvPr/>
        </p:nvPicPr>
        <p:blipFill>
          <a:blip r:embed="rId2"/>
          <a:stretch/>
        </p:blipFill>
        <p:spPr>
          <a:xfrm>
            <a:off x="5076720" y="1557360"/>
            <a:ext cx="3167280" cy="23763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" descr=""/>
          <p:cNvPicPr/>
          <p:nvPr/>
        </p:nvPicPr>
        <p:blipFill>
          <a:blip r:embed="rId3"/>
          <a:stretch/>
        </p:blipFill>
        <p:spPr>
          <a:xfrm>
            <a:off x="971640" y="1557360"/>
            <a:ext cx="3132000" cy="2347920"/>
          </a:xfrm>
          <a:prstGeom prst="rect">
            <a:avLst/>
          </a:prstGeom>
          <a:ln w="0">
            <a:noFill/>
          </a:ln>
        </p:spPr>
      </p:pic>
      <p:pic>
        <p:nvPicPr>
          <p:cNvPr id="130" name="Content Placeholder 3" descr=""/>
          <p:cNvPicPr/>
          <p:nvPr/>
        </p:nvPicPr>
        <p:blipFill>
          <a:blip r:embed="rId4"/>
          <a:stretch/>
        </p:blipFill>
        <p:spPr>
          <a:xfrm>
            <a:off x="3132000" y="4221000"/>
            <a:ext cx="2944800" cy="22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45720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švados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ginant jaunąją kartą labai svarbu perduoti iš kartos į kartą tai, ką mūsų senoliai brangino ir puoselėjo, t.y. tradicijas ir papročiu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vento vakaronės metu – formavosi vertybinės nuostato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ėveliai ir svečiai galėjo pamatyti, kai kurie sužinoti lietuvių liaudies tradicijas, papročius, taip pat Advento ir Kūčių valgių reikšmes, kokie burtai buvo tuo laikotarpiu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yko glaudus ir nenutrūkstantis bendradarbiavimas tarp – vaikų tėvų → vaikų → pedagogų → muzikos pedagogo → vaikų šeimos narių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ikai tobulino saviraišką, vaidybinius, muzikinius, komunikacinius gebėjimu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sos vakaronės metu sukurtas emocinis komforta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vento vakaronė – grupės bendruomenės šventė, kuri suartina šeimos narius, skatina bendrauti, dalintis patirtimi, žiniomis. „Sėja“ tarp mūsų gėrį, šilumą, švelnumą ir nors trumpam priverčia pamiršti „reikalus“, rūpesčiu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179280" y="119700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000000"/>
                </a:solidFill>
                <a:latin typeface="PosterBodoni It TL"/>
              </a:rPr>
              <a:t>Mes gyvename iš to, ką gauname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000000"/>
                </a:solidFill>
                <a:latin typeface="PosterBodoni It TL"/>
              </a:rPr>
              <a:t>bet kuriame gyvenimą iš to, ką duodame.</a:t>
            </a:r>
            <a:br>
              <a:rPr sz="4000"/>
            </a:br>
            <a:r>
              <a:rPr b="0" lang="lt-LT" sz="4000" spc="-1" strike="noStrike">
                <a:solidFill>
                  <a:srgbClr val="000000"/>
                </a:solidFill>
                <a:latin typeface="PosterBodoni It TL"/>
              </a:rPr>
              <a:t>	</a:t>
            </a:r>
            <a:r>
              <a:rPr b="0" lang="lt-LT" sz="4000" spc="-1" strike="noStrike">
                <a:solidFill>
                  <a:srgbClr val="000000"/>
                </a:solidFill>
                <a:latin typeface="PosterBodoni It TL"/>
              </a:rPr>
              <a:t>	</a:t>
            </a:r>
            <a:r>
              <a:rPr b="0" lang="lt-LT" sz="4000" spc="-1" strike="noStrike">
                <a:solidFill>
                  <a:srgbClr val="000000"/>
                </a:solidFill>
                <a:latin typeface="PosterBodoni It TL"/>
              </a:rPr>
              <a:t>	</a:t>
            </a:r>
            <a:r>
              <a:rPr b="0" lang="lt-LT" sz="4000" spc="-1" strike="noStrike">
                <a:solidFill>
                  <a:srgbClr val="000000"/>
                </a:solidFill>
                <a:latin typeface="PosterBodoni It TL"/>
              </a:rPr>
              <a:t>	</a:t>
            </a:r>
            <a:r>
              <a:rPr b="0" lang="lt-LT" sz="5400" spc="-1" strike="noStrike">
                <a:solidFill>
                  <a:srgbClr val="000000"/>
                </a:solidFill>
                <a:latin typeface="PosterBodoni It TL"/>
              </a:rPr>
              <a:t>V. Čerčili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468360" y="24922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8000" spc="-1" strike="noStrike">
                <a:solidFill>
                  <a:srgbClr val="000000"/>
                </a:solidFill>
                <a:latin typeface="Calibri"/>
              </a:rPr>
              <a:t>Ačiū už dėmesį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ksla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ndradarbiaujant su vaikų tėveliais, ugdyti vaikų kūrybiškumą ir meninius gebėjimu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57200" y="404280"/>
            <a:ext cx="850752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ždaviniai: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urti tėvelius į kūrybines dirbtuvėles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kurti palankią, jaukią ir saugią kūrybos procesui aplinką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daryti sąlygas kiekvieno vaiko saviraiškai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kti bendro tikslo, dalintis patirtimi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vinti turimą kūrybinį potencialą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šnaudoti visas kūrybinės raiškos galimybes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justi atradimo kūryboje džiaugsm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3 m. 12 mėn. 9 – 13 d.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uriny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„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mbulų“ gamyba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„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kliukas“ – žaisliukas ant eglutės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ešinių puošyba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yrago gamyba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eštuko dekoravima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4 m. 12 mėn. 8 – 22 d.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uriny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iklinių indų dekoravimas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zų iš sagų gamyba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Žaislo iš veltinio gamyba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kupažas (eglutės burbulas)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ventinė dekoracija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binio iš medžio – namelių gamyba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pelio pynimas  iš vytelių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glutės žaisliukų gamyba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iklo dekoravimas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ukiami rezultatai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ikla paskatins tėvelius bei pedagogus glaudesniam bendradarbiavimui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si dalyviai sieks bendro tikslo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ėveliai dalinsis sukaupta patirtimi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s ugdoma kūrybiška, atvira naujai patirčiai, savarankiška, lanksti, dinamiška, originali asmenybė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yks glaudus bendradarbiavimas ir bendravimas, pagrįstas pagarba ir pasitikėjimu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ikai patirs daug teigiamų emocijų ir kūrybos proceso metu, ir matydami gautą rezultatą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ikai galės išmėginti įvairias priemones kūrybos procese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000000"/>
                </a:solidFill>
                <a:latin typeface="Calibri"/>
              </a:rPr>
              <a:t>2013 m. Kūrybinių dirbtuvėlių akimirko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Content Placeholder 3" descr=""/>
          <p:cNvPicPr/>
          <p:nvPr/>
        </p:nvPicPr>
        <p:blipFill>
          <a:blip r:embed="rId2"/>
          <a:stretch/>
        </p:blipFill>
        <p:spPr>
          <a:xfrm>
            <a:off x="1116000" y="4005360"/>
            <a:ext cx="2962440" cy="2222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"/>
          <p:cNvPicPr/>
          <p:nvPr/>
        </p:nvPicPr>
        <p:blipFill>
          <a:blip r:embed="rId3"/>
          <a:stretch/>
        </p:blipFill>
        <p:spPr>
          <a:xfrm>
            <a:off x="5076720" y="4005360"/>
            <a:ext cx="2962440" cy="2222280"/>
          </a:xfrm>
          <a:prstGeom prst="rect">
            <a:avLst/>
          </a:prstGeom>
          <a:ln w="0">
            <a:noFill/>
          </a:ln>
        </p:spPr>
      </p:pic>
      <p:pic>
        <p:nvPicPr>
          <p:cNvPr id="53" name="Content Placeholder 3" descr=""/>
          <p:cNvPicPr/>
          <p:nvPr/>
        </p:nvPicPr>
        <p:blipFill>
          <a:blip r:embed="rId4"/>
          <a:stretch/>
        </p:blipFill>
        <p:spPr>
          <a:xfrm>
            <a:off x="1116000" y="1590840"/>
            <a:ext cx="2808360" cy="2106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"/>
          <p:cNvPicPr/>
          <p:nvPr/>
        </p:nvPicPr>
        <p:blipFill>
          <a:blip r:embed="rId5"/>
          <a:stretch/>
        </p:blipFill>
        <p:spPr>
          <a:xfrm>
            <a:off x="5099040" y="1590840"/>
            <a:ext cx="2952720" cy="22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05T14:41:28Z</dcterms:created>
  <dc:creator>Mindaugas Juraška</dc:creator>
  <dc:description/>
  <dc:language>en-US</dc:language>
  <cp:lastModifiedBy>Vartotojas</cp:lastModifiedBy>
  <dcterms:modified xsi:type="dcterms:W3CDTF">2016-03-24T19:34:46Z</dcterms:modified>
  <cp:revision>35</cp:revision>
  <dc:subject/>
  <dc:title>ADVENTO VAKARAS</dc:title>
</cp:coreProperties>
</file>