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D29D-8E3C-4072-B218-EA1AEB31F894}" type="slidenum">
              <a:rPr b="0" lang="lt-L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56B1-88F2-4387-A129-BFD7CAF88429}" type="slidenum">
              <a:rPr b="0" lang="lt-L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8276-E14B-42B7-96D7-1D18131DBC03}" type="slidenum">
              <a:rPr b="0" lang="lt-L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F29A-F496-4BC3-8771-E29CFA2B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1B5-61B1-47BD-8BA6-B765A7EC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731-32DC-4FB5-9469-6636E1AC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1C9-6F1B-4CDC-A0E9-1D2A60EF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C499-DB99-4295-A73D-1B235648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1974-6CDF-43B3-AFD7-8FFCAA02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4072-C4FD-41C4-BF19-0CFFD479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0220-EACF-4598-AE3D-D9641E98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761D-2685-4007-B901-37BF38EC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0C1D-A42A-479F-AAF9-3ABA6B1A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212B-5470-4B19-B59A-8EF5851D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2BB-FB85-4EE6-852F-27C5014C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FA33-89EA-4D30-8CCB-4584D60F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BADD-5D21-4D86-85DC-8FBE3793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3EEC-D52D-4434-B7C0-3A8D83AF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D5DE-A44A-4B3A-9C79-B320EE5B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CB1B-2457-4939-B3CD-107D405A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54197-7967-49B9-835F-4A97D53A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B339-E90C-41D4-A028-E1D7AB19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E878-4C08-4E9F-8419-5830A707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1A763-A079-452D-BF93-C2E21C64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3F9D3-770F-4B36-9702-F8C8984E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754-0EF8-4A3A-ACD7-7B58D65A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6D1A-9524-464B-AA7D-5EE0638A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8A7B-B672-40E9-A35C-96D19ECE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BE6B-3445-4DC5-BB07-A09704EA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09ACF-86F4-45F3-A304-83E91FA2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20B18-FE69-469D-A892-1E563E51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988DB-5F69-4FC0-B7A5-0CD985AA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B645-B044-4AD9-9B2A-F5D2DBFE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5F2DC-3687-4DDA-892F-701D1AC4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DA9BB-AFBB-4EAF-B0E1-6CB91EB1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A5AA7-809F-402C-9B42-E1853C1A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D13-8DF4-42D7-96B7-B9C2F7C2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B0E24-ADBA-4558-BA74-21C20FC1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7E23-64AF-44D9-9A95-6AD6DD7B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3DB15-7FAF-4964-82BB-C6E1737B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16E05-81AD-4237-9330-D8A57485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5D3E4-28FC-42F5-9DDD-585A45DB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A76A2-E273-483C-8C5E-0611726A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BD496-4E08-41D8-BDDD-8A094920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A93D0-6CFD-43BE-963D-064F2D6F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81F2D-4B2B-4C8C-9842-A09CA2A8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957-A9DC-4176-B542-32B942A9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927-B20B-41C7-ACB2-49911605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AB6-1B53-4E92-B3A9-A26BC905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BB5-F512-4A96-8D33-C4056620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A88-51A6-4909-B382-D93910A3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3753-336A-4D2D-9A7E-493556F444C8}" type="slidenum">
              <a:rPr b="0" lang="lt-LT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4E7E-4D2A-4F89-8DC7-EF7E4BA32AEF}" type="slidenum">
              <a:rPr b="0" lang="lt-LT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B42B-6F9F-41BB-B68B-4D477A993F79}" type="slidenum">
              <a:rPr b="0" lang="lt-LT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2A24-E3F4-4C1D-8CEC-35585033A41E}" type="slidenum">
              <a:rPr b="0" lang="lt-LT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>
                <a:solidFill>
                  <a:srgbClr val="a5b592"/>
                </a:solidFill>
                <a:latin typeface="Trebuchet MS"/>
              </a:rPr>
              <a:t>“</a:t>
            </a:r>
            <a:r>
              <a:rPr b="1" lang="en-US" sz="4900" spc="-1" strike="noStrike">
                <a:solidFill>
                  <a:srgbClr val="a5b592"/>
                </a:solidFill>
                <a:latin typeface="Trebuchet MS"/>
              </a:rPr>
              <a:t>BITU</a:t>
            </a:r>
            <a:r>
              <a:rPr b="1" lang="lt-LT" sz="4900" spc="-1" strike="noStrike">
                <a:solidFill>
                  <a:srgbClr val="a5b592"/>
                </a:solidFill>
                <a:latin typeface="Trebuchet MS"/>
              </a:rPr>
              <a:t>ČIŲ</a:t>
            </a:r>
            <a:r>
              <a:rPr b="1" lang="en-US" sz="4900" spc="-1" strike="noStrike">
                <a:solidFill>
                  <a:srgbClr val="a5b592"/>
                </a:solidFill>
                <a:latin typeface="Trebuchet MS"/>
              </a:rPr>
              <a:t>”</a:t>
            </a:r>
            <a:r>
              <a:rPr b="1" lang="lt-LT" sz="4900" spc="-1" strike="noStrike">
                <a:solidFill>
                  <a:srgbClr val="a5b592"/>
                </a:solidFill>
                <a:latin typeface="Trebuchet MS"/>
              </a:rPr>
              <a:t> </a:t>
            </a:r>
            <a:r>
              <a:rPr b="1" lang="en-US" sz="4900" spc="-1" strike="noStrike">
                <a:solidFill>
                  <a:srgbClr val="a5b592"/>
                </a:solidFill>
                <a:latin typeface="Trebuchet MS"/>
              </a:rPr>
              <a:t>GRUP</a:t>
            </a:r>
            <a:r>
              <a:rPr b="1" lang="lt-LT" sz="4900" spc="-1" strike="noStrike">
                <a:solidFill>
                  <a:srgbClr val="a5b592"/>
                </a:solidFill>
                <a:latin typeface="Trebuchet MS"/>
              </a:rPr>
              <a:t>Ė</a:t>
            </a:r>
            <a:r>
              <a:rPr b="1" lang="en-US" sz="4900" spc="-1" strike="noStrike">
                <a:solidFill>
                  <a:srgbClr val="a5b592"/>
                </a:solidFill>
                <a:latin typeface="Trebuchet MS"/>
              </a:rPr>
              <a:t>S BENDRUOMEN</a:t>
            </a:r>
            <a:r>
              <a:rPr b="1" lang="lt-LT" sz="4900" spc="-1" strike="noStrike">
                <a:solidFill>
                  <a:srgbClr val="a5b592"/>
                </a:solidFill>
                <a:latin typeface="Trebuchet MS"/>
              </a:rPr>
              <a:t>Ė</a:t>
            </a:r>
            <a:r>
              <a:rPr b="1" lang="en-US" sz="4900" spc="-1" strike="noStrike">
                <a:solidFill>
                  <a:srgbClr val="a5b592"/>
                </a:solidFill>
                <a:latin typeface="Trebuchet MS"/>
              </a:rPr>
              <a:t>S </a:t>
            </a:r>
            <a:r>
              <a:rPr b="1" lang="lt-LT" sz="4900" spc="-1" strike="noStrike">
                <a:solidFill>
                  <a:srgbClr val="a5b592"/>
                </a:solidFill>
                <a:latin typeface="Trebuchet MS"/>
              </a:rPr>
              <a:t>Š</a:t>
            </a:r>
            <a:r>
              <a:rPr b="1" lang="en-US" sz="4900" spc="-1" strike="noStrike">
                <a:solidFill>
                  <a:srgbClr val="a5b592"/>
                </a:solidFill>
                <a:latin typeface="Trebuchet MS"/>
              </a:rPr>
              <a:t>VENT</a:t>
            </a:r>
            <a:r>
              <a:rPr b="1" lang="lt-LT" sz="4900" spc="-1" strike="noStrike">
                <a:solidFill>
                  <a:srgbClr val="a5b592"/>
                </a:solidFill>
                <a:latin typeface="Trebuchet MS"/>
              </a:rPr>
              <a:t>Ė</a:t>
            </a:r>
            <a:r>
              <a:rPr b="1" lang="en-US" sz="4900" spc="-1" strike="noStrike">
                <a:solidFill>
                  <a:srgbClr val="a5b592"/>
                </a:solidFill>
                <a:latin typeface="Trebuchet MS"/>
              </a:rPr>
              <a:t>S, PRAMOGOS, I</a:t>
            </a:r>
            <a:r>
              <a:rPr b="1" lang="lt-LT" sz="4900" spc="-1" strike="noStrike">
                <a:solidFill>
                  <a:srgbClr val="a5b592"/>
                </a:solidFill>
                <a:latin typeface="Trebuchet MS"/>
              </a:rPr>
              <a:t>Š</a:t>
            </a:r>
            <a:r>
              <a:rPr b="1" lang="en-US" sz="4900" spc="-1" strike="noStrike">
                <a:solidFill>
                  <a:srgbClr val="a5b592"/>
                </a:solidFill>
                <a:latin typeface="Trebuchet MS"/>
              </a:rPr>
              <a:t>VYKOS</a:t>
            </a:r>
            <a:endParaRPr b="0" lang="en-US" sz="49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342960" y="4051440"/>
            <a:ext cx="6189480" cy="120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000" spc="-1" strike="noStrike">
                <a:solidFill>
                  <a:srgbClr val="7f7f7f"/>
                </a:solidFill>
                <a:latin typeface="Trebuchet MS"/>
              </a:rPr>
              <a:t>Auklėtoja</a:t>
            </a:r>
            <a:r>
              <a:rPr b="1" lang="en-US" sz="2000" spc="-1" strike="noStrike">
                <a:solidFill>
                  <a:srgbClr val="7f7f7f"/>
                </a:solidFill>
                <a:latin typeface="Trebuchet MS"/>
              </a:rPr>
              <a:t> – </a:t>
            </a:r>
            <a:r>
              <a:rPr b="1" lang="lt-LT" sz="2000" spc="-1" strike="noStrike">
                <a:solidFill>
                  <a:srgbClr val="7f7f7f"/>
                </a:solidFill>
                <a:latin typeface="Trebuchet MS"/>
              </a:rPr>
              <a:t>metodininkė</a:t>
            </a:r>
            <a:r>
              <a:rPr b="1" lang="en-US" sz="2000" spc="-1" strike="noStrike">
                <a:solidFill>
                  <a:srgbClr val="7f7f7f"/>
                </a:solidFill>
                <a:latin typeface="Trebuchet MS"/>
              </a:rPr>
              <a:t> Joana OL</a:t>
            </a:r>
            <a:r>
              <a:rPr b="1" lang="lt-LT" sz="2000" spc="-1" strike="noStrike">
                <a:solidFill>
                  <a:srgbClr val="7f7f7f"/>
                </a:solidFill>
                <a:latin typeface="Trebuchet MS"/>
              </a:rPr>
              <a:t>Š</a:t>
            </a:r>
            <a:r>
              <a:rPr b="1" lang="en-US" sz="2000" spc="-1" strike="noStrike">
                <a:solidFill>
                  <a:srgbClr val="7f7f7f"/>
                </a:solidFill>
                <a:latin typeface="Trebuchet MS"/>
              </a:rPr>
              <a:t>AUSKIEN</a:t>
            </a:r>
            <a:r>
              <a:rPr b="1" lang="lt-LT" sz="2000" spc="-1" strike="noStrike">
                <a:solidFill>
                  <a:srgbClr val="7f7f7f"/>
                </a:solidFill>
                <a:latin typeface="Trebuchet MS"/>
              </a:rPr>
              <a:t>Ė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000" spc="-1" strike="noStrike">
                <a:solidFill>
                  <a:srgbClr val="7f7f7f"/>
                </a:solidFill>
                <a:latin typeface="Trebuchet MS"/>
              </a:rPr>
              <a:t>Kauno</a:t>
            </a:r>
            <a:r>
              <a:rPr b="1" lang="en-US" sz="20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1" lang="lt-LT" sz="2000" spc="-1" strike="noStrike">
                <a:solidFill>
                  <a:srgbClr val="7f7f7f"/>
                </a:solidFill>
                <a:latin typeface="Trebuchet MS"/>
              </a:rPr>
              <a:t>lopšelis – darželis</a:t>
            </a:r>
            <a:r>
              <a:rPr b="1" lang="en-US" sz="2000" spc="-1" strike="noStrike">
                <a:solidFill>
                  <a:srgbClr val="7f7f7f"/>
                </a:solidFill>
                <a:latin typeface="Trebuchet MS"/>
              </a:rPr>
              <a:t> “</a:t>
            </a:r>
            <a:r>
              <a:rPr b="1" lang="lt-LT" sz="2000" spc="-1" strike="noStrike">
                <a:solidFill>
                  <a:srgbClr val="7f7f7f"/>
                </a:solidFill>
                <a:latin typeface="Trebuchet MS"/>
              </a:rPr>
              <a:t>Malūnėlis</a:t>
            </a:r>
            <a:r>
              <a:rPr b="1" lang="en-US" sz="2000" spc="-1" strike="noStrike">
                <a:solidFill>
                  <a:srgbClr val="7f7f7f"/>
                </a:solidFill>
                <a:latin typeface="Trebuchet MS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600" spc="-1" strike="noStrike">
                <a:solidFill>
                  <a:srgbClr val="a5b592"/>
                </a:solidFill>
                <a:latin typeface="Trebuchet MS"/>
              </a:rPr>
              <a:t>Išvada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77520" y="1518840"/>
            <a:ext cx="859644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Vaikai, kurie netinkamai elgiasi, gali jaustis nesaugūs, vieniši arba jiems trūksta pasitikėjimo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Jiems reikia suaugusiųjų pagalbos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Padėkime vaikams tinkamai išreikšti savo baimes ir pyktį per kūrybą, žaidimus, pasakojimus, pokalbiu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Išlikime ramūs ir padėkime jiems ugdyti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a5b592"/>
                </a:solidFill>
                <a:latin typeface="Trebuchet MS"/>
              </a:rPr>
              <a:t>Ikimokyklinio ugdymo auklėtojas yra: ne tik vaikų ugdytojas, bet ir tėvų.</a:t>
            </a:r>
            <a:br>
              <a:rPr sz="3200"/>
            </a:br>
            <a:endParaRPr b="0" lang="en-US" sz="32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Vienas iš reikšmingesnių veiksnių, įtakojančių santykius tarp šeimos ir ugdymo įstaigos, yra tėvų socialinė padėti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600" spc="-1" strike="noStrike">
                <a:solidFill>
                  <a:srgbClr val="a5b592"/>
                </a:solidFill>
                <a:latin typeface="Trebuchet MS"/>
              </a:rPr>
              <a:t>Pagal socialinį-ekonominį statusą išskiriamos 4 grupės tėvų: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Turtingi ir išsilavinę tėvai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Turtingi neišsilavinę tėvai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Neturtingi išsilavinę tėvai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Neturtingi ir neišsilavinę tėvai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600" spc="-1" strike="noStrike">
                <a:solidFill>
                  <a:srgbClr val="a5b592"/>
                </a:solidFill>
                <a:latin typeface="Trebuchet MS"/>
              </a:rPr>
              <a:t>Bet kuriuo atveju ikimokyklinio ugdymo auklėtojas turi: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400" spc="-1" strike="noStrike">
                <a:solidFill>
                  <a:srgbClr val="404040"/>
                </a:solidFill>
                <a:latin typeface="Trebuchet MS"/>
              </a:rPr>
              <a:t>Gerai pažinti tėvų galimybes ir jomis pasinaudoti veikloje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400" spc="-1" strike="noStrike">
                <a:solidFill>
                  <a:srgbClr val="404040"/>
                </a:solidFill>
                <a:latin typeface="Trebuchet MS"/>
              </a:rPr>
              <a:t>Kalbėti tėvams suprantama kalba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400" spc="-1" strike="noStrike">
                <a:solidFill>
                  <a:srgbClr val="404040"/>
                </a:solidFill>
                <a:latin typeface="Trebuchet MS"/>
              </a:rPr>
              <a:t>Padėti suprasti pedagoginę terminologiją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400" spc="-1" strike="noStrike">
                <a:solidFill>
                  <a:srgbClr val="404040"/>
                </a:solidFill>
                <a:latin typeface="Trebuchet MS"/>
              </a:rPr>
              <a:t>Padėti suprasti savo vaiko ugdymo(si) poreikius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400" spc="-1" strike="noStrike">
                <a:solidFill>
                  <a:srgbClr val="404040"/>
                </a:solidFill>
                <a:latin typeface="Trebuchet MS"/>
              </a:rPr>
              <a:t>Išsiaiškinti tėvų lūkesčius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400" spc="-1" strike="noStrike">
                <a:solidFill>
                  <a:srgbClr val="404040"/>
                </a:solidFill>
                <a:latin typeface="Trebuchet MS"/>
              </a:rPr>
              <a:t>Pastebėti tėvų elgesio ir bendravimo su vaiku ypatyb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a5b592"/>
                </a:solidFill>
                <a:latin typeface="Trebuchet MS"/>
              </a:rPr>
              <a:t>Kai tarp vaiko, auklėtojų ir tėvų susiklosto pasitikėjimu grįsti santykiai:</a:t>
            </a:r>
            <a:br>
              <a:rPr sz="3200"/>
            </a:br>
            <a:endParaRPr b="0" lang="en-US" sz="32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400" spc="-1" strike="noStrike">
                <a:solidFill>
                  <a:srgbClr val="404040"/>
                </a:solidFill>
                <a:latin typeface="Trebuchet MS"/>
              </a:rPr>
              <a:t>Sukuriama grupės bendruomenė, kurioje kiekvienas jaučia atsakomybę padėti kitiems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400" spc="-1" strike="noStrike">
                <a:solidFill>
                  <a:srgbClr val="404040"/>
                </a:solidFill>
                <a:latin typeface="Trebuchet MS"/>
              </a:rPr>
              <a:t>Pasitikėjimas stiprinamas teigiamais išgyvenimais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400" spc="-1" strike="noStrike">
                <a:solidFill>
                  <a:srgbClr val="404040"/>
                </a:solidFill>
                <a:latin typeface="Trebuchet MS"/>
              </a:rPr>
              <a:t>Atsiranda poreikis šventėms, pramogoms, išvykoms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400" spc="-1" strike="noStrike">
                <a:solidFill>
                  <a:srgbClr val="404040"/>
                </a:solidFill>
                <a:latin typeface="Trebuchet MS"/>
              </a:rPr>
              <a:t>Prasideda ne tik bendravimas, bet ir bendradarbiavima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400" spc="-1" strike="noStrike">
                <a:solidFill>
                  <a:srgbClr val="404040"/>
                </a:solidFill>
                <a:latin typeface="Trebuchet MS"/>
              </a:rPr>
              <a:t>IŠVYKOS – ne tik bendravimas su šeima, bet ir puikus laiko praleidimas socialinėje aplinkoj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Content Placeholder 3" descr=""/>
          <p:cNvPicPr/>
          <p:nvPr/>
        </p:nvPicPr>
        <p:blipFill>
          <a:blip r:embed="rId1"/>
          <a:stretch/>
        </p:blipFill>
        <p:spPr>
          <a:xfrm>
            <a:off x="777960" y="115920"/>
            <a:ext cx="4933800" cy="328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6141960" y="57240"/>
            <a:ext cx="5002200" cy="3335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682560" y="345456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6127920" y="345456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668160" y="6480"/>
            <a:ext cx="5023080" cy="3348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"/>
          <p:cNvPicPr/>
          <p:nvPr/>
        </p:nvPicPr>
        <p:blipFill>
          <a:blip r:embed="rId2"/>
          <a:stretch/>
        </p:blipFill>
        <p:spPr>
          <a:xfrm>
            <a:off x="6113520" y="44280"/>
            <a:ext cx="4906800" cy="3272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3"/>
          <a:stretch/>
        </p:blipFill>
        <p:spPr>
          <a:xfrm>
            <a:off x="668160" y="3408480"/>
            <a:ext cx="5023080" cy="3348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"/>
          <p:cNvPicPr/>
          <p:nvPr/>
        </p:nvPicPr>
        <p:blipFill>
          <a:blip r:embed="rId4"/>
          <a:stretch/>
        </p:blipFill>
        <p:spPr>
          <a:xfrm>
            <a:off x="6113520" y="3471840"/>
            <a:ext cx="49068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436680" y="106200"/>
            <a:ext cx="5002200" cy="3335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2"/>
          <a:stretch/>
        </p:blipFill>
        <p:spPr>
          <a:xfrm>
            <a:off x="6059520" y="106200"/>
            <a:ext cx="5043600" cy="3362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3"/>
          <a:stretch/>
        </p:blipFill>
        <p:spPr>
          <a:xfrm>
            <a:off x="436680" y="3522600"/>
            <a:ext cx="5002200" cy="3335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"/>
          <p:cNvPicPr/>
          <p:nvPr/>
        </p:nvPicPr>
        <p:blipFill>
          <a:blip r:embed="rId4"/>
          <a:stretch/>
        </p:blipFill>
        <p:spPr>
          <a:xfrm>
            <a:off x="6059520" y="3495600"/>
            <a:ext cx="5043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pic>
        <p:nvPicPr>
          <p:cNvPr id="259" name="Content Placeholder 4" descr=""/>
          <p:cNvPicPr/>
          <p:nvPr/>
        </p:nvPicPr>
        <p:blipFill>
          <a:blip r:embed="rId1"/>
          <a:stretch/>
        </p:blipFill>
        <p:spPr>
          <a:xfrm>
            <a:off x="6211800" y="127080"/>
            <a:ext cx="5016600" cy="3344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2"/>
          <a:stretch/>
        </p:blipFill>
        <p:spPr>
          <a:xfrm>
            <a:off x="441360" y="127080"/>
            <a:ext cx="5018040" cy="3344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3"/>
          <a:stretch/>
        </p:blipFill>
        <p:spPr>
          <a:xfrm>
            <a:off x="441360" y="3513240"/>
            <a:ext cx="5018040" cy="3344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"/>
          <p:cNvPicPr/>
          <p:nvPr/>
        </p:nvPicPr>
        <p:blipFill>
          <a:blip r:embed="rId4"/>
          <a:stretch/>
        </p:blipFill>
        <p:spPr>
          <a:xfrm>
            <a:off x="6211800" y="3513240"/>
            <a:ext cx="501660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pic>
        <p:nvPicPr>
          <p:cNvPr id="264" name="Content Placeholder 3" descr=""/>
          <p:cNvPicPr/>
          <p:nvPr/>
        </p:nvPicPr>
        <p:blipFill>
          <a:blip r:embed="rId1"/>
          <a:stretch/>
        </p:blipFill>
        <p:spPr>
          <a:xfrm>
            <a:off x="5918040" y="3473280"/>
            <a:ext cx="4902480" cy="3268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2"/>
          <a:stretch/>
        </p:blipFill>
        <p:spPr>
          <a:xfrm>
            <a:off x="5918040" y="152280"/>
            <a:ext cx="4902480" cy="3267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"/>
          <p:cNvPicPr/>
          <p:nvPr/>
        </p:nvPicPr>
        <p:blipFill>
          <a:blip r:embed="rId3"/>
          <a:stretch/>
        </p:blipFill>
        <p:spPr>
          <a:xfrm>
            <a:off x="285840" y="3494160"/>
            <a:ext cx="4870440" cy="3247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"/>
          <p:cNvPicPr/>
          <p:nvPr/>
        </p:nvPicPr>
        <p:blipFill>
          <a:blip r:embed="rId4"/>
          <a:stretch/>
        </p:blipFill>
        <p:spPr>
          <a:xfrm>
            <a:off x="241200" y="111240"/>
            <a:ext cx="49611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3200" spc="-1" strike="noStrike">
                <a:solidFill>
                  <a:srgbClr val="a5b592"/>
                </a:solidFill>
                <a:latin typeface="Trebuchet MS"/>
              </a:rPr>
              <a:t>Grupės bendruomenė – tai kolektyvas, kuriame žmonės:</a:t>
            </a:r>
            <a:br>
              <a:rPr sz="3200"/>
            </a:br>
            <a:endParaRPr b="0" lang="en-US" sz="32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Yra saugūs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Padeda vienas kitam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Jaučiasi grupės dalimi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600" spc="-1" strike="noStrike">
                <a:solidFill>
                  <a:srgbClr val="a5b592"/>
                </a:solidFill>
                <a:latin typeface="Trebuchet MS"/>
              </a:rPr>
              <a:t>Patarimai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Skatinkime tėvus reikšti savo idėjas ir kitaip talkinti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Leiskime jiems suprasti kaip tai vertiname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Teigiamai ir pagarbiai bendraudami su tėvais sukursime pasitikėjimą ir nuteiksime pozityviai sąveikai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649080" y="2460240"/>
            <a:ext cx="859788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Bendravimas – tai ne tik vienintelis žmogaus gyvenimo tikslas, bet ir paties gyvenimo esmė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(Dž. A. Pirsas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3280" y="2629080"/>
            <a:ext cx="859608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600" spc="-1" strike="noStrike">
                <a:solidFill>
                  <a:srgbClr val="a5b592"/>
                </a:solidFill>
                <a:latin typeface="Trebuchet MS"/>
              </a:rPr>
              <a:t>Ačiū už dėmesį</a:t>
            </a: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!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3200" spc="-1" strike="noStrike">
                <a:solidFill>
                  <a:srgbClr val="a5b592"/>
                </a:solidFill>
                <a:latin typeface="Trebuchet MS"/>
              </a:rPr>
              <a:t>Grupė netampa bendruomene greitai ar pati savaime</a:t>
            </a:r>
            <a:br>
              <a:rPr sz="3200"/>
            </a:br>
            <a:endParaRPr b="0" lang="en-US" sz="32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Bendruomenėje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600" spc="-1" strike="noStrike">
                <a:solidFill>
                  <a:srgbClr val="404040"/>
                </a:solidFill>
                <a:latin typeface="Trebuchet MS"/>
              </a:rPr>
              <a:t>Mokomės koks elgesys priimtinas ir koks ne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600" spc="-1" strike="noStrike">
                <a:solidFill>
                  <a:srgbClr val="404040"/>
                </a:solidFill>
                <a:latin typeface="Trebuchet MS"/>
              </a:rPr>
              <a:t>Ugdomės savidrausmės įgūdžiu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38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a5b592"/>
                </a:solidFill>
                <a:latin typeface="Trebuchet MS"/>
              </a:rPr>
              <a:t>Tai </a:t>
            </a:r>
            <a:r>
              <a:rPr b="1" lang="lt-LT" sz="3600" spc="-1" strike="noStrike">
                <a:solidFill>
                  <a:srgbClr val="a5b592"/>
                </a:solidFill>
                <a:latin typeface="Trebuchet MS"/>
              </a:rPr>
              <a:t>nėra</a:t>
            </a:r>
            <a:r>
              <a:rPr b="1" lang="en-US" sz="3600" spc="-1" strike="noStrike">
                <a:solidFill>
                  <a:srgbClr val="a5b592"/>
                </a:solidFill>
                <a:latin typeface="Trebuchet MS"/>
              </a:rPr>
              <a:t> </a:t>
            </a:r>
            <a:r>
              <a:rPr b="1" lang="lt-LT" sz="3600" spc="-1" strike="noStrike">
                <a:solidFill>
                  <a:srgbClr val="a5b592"/>
                </a:solidFill>
                <a:latin typeface="Trebuchet MS"/>
              </a:rPr>
              <a:t>lengvai įgyjami įgūdžiai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126800" y="1901520"/>
            <a:ext cx="859788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Jiems įgyti reikia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Dažnai tiesioginio aiškinimo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Kantrybės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Pakankamai laiko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O kartais net viso gyvenim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3600" spc="-1" strike="noStrike">
                <a:solidFill>
                  <a:srgbClr val="a5b592"/>
                </a:solidFill>
                <a:latin typeface="Trebuchet MS"/>
              </a:rPr>
              <a:t>Raidos teorija teigia, kad geriausiai vaikai mokosi bendraudami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Todėl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grupė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je</a:t>
            </a: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 labai svarbi socialinių santykių atmosfer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600" spc="-1" strike="noStrike">
                <a:solidFill>
                  <a:srgbClr val="a5b592"/>
                </a:solidFill>
                <a:latin typeface="Trebuchet MS"/>
              </a:rPr>
              <a:t>Socialiai sėkmingi vaikai yra tada, kai jie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77520" y="193032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Reiškia savo nuomonę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Paaiškina kaip jie jaučiasi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Išklauso kito nuomonės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Ieško problemos sprendimo būd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Kai kiekvienas vaikas to išmoksta – laimi visa grupės bendruomenė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36120" y="134136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Grupės bendruomenė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užtikrina saugumą todėl vaikai žino, kad jiems nieko blogo nenutiks nei fiziškai, nei emociškai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Kuria taisykles ir jų laikosi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600" spc="-1" strike="noStrike">
                <a:solidFill>
                  <a:srgbClr val="a5b592"/>
                </a:solidFill>
                <a:latin typeface="Trebuchet MS"/>
              </a:rPr>
              <a:t>Kuriant taisykles būtina:</a:t>
            </a:r>
            <a:br>
              <a:rPr sz="3600"/>
            </a:b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Užtikrinti fizinį saugumą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Gerbti kitų teises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Neįžeisti kitų jausmų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Rūpintis grupės patalpomis, priemonėmis ir artimiausia aplinka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600" spc="-1" strike="noStrike">
                <a:solidFill>
                  <a:srgbClr val="a5b592"/>
                </a:solidFill>
                <a:latin typeface="Trebuchet MS"/>
              </a:rPr>
              <a:t>Konfliktai yra natūrali gyvenimo dalis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Todėl be bendrųjų taisyklių reikia ugdyti socialinių problemų sprendimo įgūdžius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5b592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Padėti vaikams aprimti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5b592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Leisti jiems išsisakyti, išsikalbėti, nes jie nori būti suprasti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5b592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Priimti sprendimo būdus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5b592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404040"/>
                </a:solidFill>
                <a:latin typeface="Trebuchet MS"/>
              </a:rPr>
              <a:t>Leisti įvertinti rezultatu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a5b592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4T05:22:33Z</dcterms:created>
  <dc:creator>Gabriele</dc:creator>
  <dc:description/>
  <dc:language>en-US</dc:language>
  <cp:lastModifiedBy>Vartotojas</cp:lastModifiedBy>
  <dcterms:modified xsi:type="dcterms:W3CDTF">2016-03-24T19:33:14Z</dcterms:modified>
  <cp:revision>39</cp:revision>
  <dc:subject/>
  <dc:title>“BITUCIU”GRUPES BENDRUOMENES SVENTES, PRAMOGOS, ISVYKOS</dc:title>
</cp:coreProperties>
</file>